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236-0E16-4633-925B-E021C956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73A-1194-47DC-B262-0F42F9C3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1BA-9CB0-4915-AE5C-4DE0E904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03B-8E85-463D-B3EE-30FEEE0F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5F53-1751-4641-95BD-59797529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A7D-7317-473F-B6EB-AEA4801B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A1ED-FE8F-4885-8E16-BB11BF4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825-D5F9-48BD-985E-06F80AA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DE8-1761-4319-9131-E5E57AE8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042-A479-408D-ADC1-D4C35B3E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FF7-4E57-4E6B-9DC9-D6E1AE9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B7C-D7F3-43A1-B09A-E6A42C0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FAB-59A9-4D97-B95A-011AE81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8BA-F06B-4DB9-922F-442B688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EF8-4001-4485-9BBA-FA0EE9E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A9D-54F6-4060-8482-43A9973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267-E9CD-4B77-95C1-2A89E761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A5AE-517F-4455-A92A-5D76CB94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F363-7996-4EA3-A36A-724CDC35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698A-FC96-42CC-B475-89FEAE72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5B1E-3E23-448A-8E61-5CB7D55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67EC-34E3-47B5-97D1-9774CC8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46E-8452-4F57-8068-C3EB86CB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BFF2-EC7D-44A0-A1C1-E764D9F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ACD9-27BD-4F64-AA51-01CCE2F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FBC3-CAA7-424F-BE04-14BB527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406C-FA06-47FC-8FA3-E0B4BE6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1B78-8AAD-4A94-B3B0-D2B2681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BAD6-7D5D-41DD-A7D0-71B24137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AA81-6871-4BDB-B604-5F227579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873C-7E34-4E61-BF3C-5A0F672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DBD7-9902-41D1-88CB-33A0B520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468E-D78A-49E8-BCB9-C34D661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633-0CFB-4E12-A1A8-2877B5B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18C2-826B-4490-9014-2C88CB7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3406-A589-4F53-A23E-74DE469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9658-43AB-4367-8C7E-942466AD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175E-2B2E-4839-BDDB-67A2091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3BE3-18CA-47B4-B821-CBC788E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CE89-C922-4335-947A-F6EE431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C177-5A19-40A1-971B-0969E03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D191-B85C-4D15-AED4-CDD12F2A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3FB9-92CC-427C-A861-CBD5DD90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8B10-2E8A-4E63-836F-94D95D72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8E4-89F0-40B1-99D6-9931FD2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502C-4A94-40B3-A475-F86DBCD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974F-FDDB-43C6-A833-E85F902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F828-7F2D-44D9-B1CD-38886056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3E44-8D6B-4F5F-B6DA-79F39C13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8533-9300-47D4-BA9A-5C62270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4503-B628-427A-927A-FBBB768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DBB1-1489-4F9A-9D6D-C9D9397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5231-994F-4677-8BD0-99E6D09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E0D4-4FC3-42B7-A8C8-E07D953A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763C-32A3-4DD6-B880-CB40578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F79-4EA2-4F0A-AEB8-73AE4C2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A188-BCD8-46D7-BA40-237F81D2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4BA5-5AE2-4111-8917-8C3AB73F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EC04-63E0-4AE7-8BE5-508856DD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0496-6584-428C-AAE7-76C7623D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1D1D-0DE4-4380-A93B-1E3FC25D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DD20-E080-4FB8-BA0F-DD71D1E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5A11-8C3D-4F2D-A69B-37A6AD2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127C-16A9-4E25-A50E-5D9A57F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8DD2-18AC-4DB4-89B2-53B4FF1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62B6-01F9-43C1-83EE-174F55A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770-3B50-4783-9BEF-2800C3C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EF07-72C5-46A1-8F77-D20036A3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0FBE5-E898-497F-889E-F903EE6F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6464-3760-4533-BF60-2EF6870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9BB7-CB9C-4908-8EE9-1468778F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B0D8E-D721-4F66-AAB9-B89AFB8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4BDA-3A97-4470-AC5D-C7D4E695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89DD-0420-43B5-BC09-A7F77AC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4AAB-487D-4B38-B0C5-980DD2B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3318-17A5-4C51-9E3D-094F6BC6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F8EA-7837-4BE2-A60A-27B4C7C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85B-69C4-495F-83E6-A7620E56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4F2B-2767-42DD-8AAC-98C2DC5C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DDFC-B824-4A86-8849-988CF64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82C43-F3A1-46CE-BC47-71D2AE9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184BB-15A2-4EF6-9523-076F70EA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D03C-DBF1-4B5E-88D7-7244B4EF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24F-EDEC-4CDF-BC64-FB4C119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529-DC40-45AA-8D9E-6F4847E42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EDC8-FB39-450B-B613-C43B48E17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950-16EC-4F9D-A8FB-2A05866712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E0B-320F-4646-AF49-E2C0BCF55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5F2-B974-4447-80D7-7504CB1C7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1D5-FDE3-4E51-8371-16BFE7EF8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A3A-1D19-4C11-A679-21D1B71E7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Braintraining les couleur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y the colour you see, not the wor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blan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HIAS</cp:lastModifiedBy>
  <dcterms:modified xsi:type="dcterms:W3CDTF">2009-03-04T14:46:08Z</dcterms:modified>
  <cp:revision>184</cp:revision>
  <dc:subject/>
  <dc:title>Drag&amp;Drop Macro: Easter Eggs</dc:title>
</cp:coreProperties>
</file>